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13B4-E649-4396-88D8-25824259C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C65D-6758-466E-9BC2-FFA36AC8D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0A5D-6371-4783-958B-2008E755F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B2D6-177D-478C-962A-31E714A3C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3124-68E7-4334-A977-2C4E70E47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6CEE-68A7-4D2E-BE01-8E478F195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CFBA-33BB-463F-9F18-9A63CB19A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8670-6580-44D3-8489-EB4F39CB5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24AC-9BA3-4ED2-94ED-35B5AF277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0F98-C3FF-4EFE-B231-4F745B16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EFBD-3086-4004-8E69-B5441EFB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AE8E-402B-43C4-9B94-114C25253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37AF7-0513-4048-A34C-BB4376A6E7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PITOLUL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REAREA UNUI TEST ON-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ditar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588672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1143000" y="457200"/>
            <a:ext cx="7162920" cy="57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924680" cy="63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9:17:51Z</dcterms:created>
  <dc:creator>User</dc:creator>
  <dc:description/>
  <dc:language>en-US</dc:language>
  <cp:lastModifiedBy>User</cp:lastModifiedBy>
  <dcterms:modified xsi:type="dcterms:W3CDTF">2012-02-04T11:10:51Z</dcterms:modified>
  <cp:revision>9</cp:revision>
  <dc:subject/>
  <dc:title>CAPITOLUL 3</dc:title>
</cp:coreProperties>
</file>